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F3C64-33EB-4671-B381-E2C869360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413A1-2F16-4417-8BB8-AA358DD58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691E3-4D65-427A-8545-0BF6090F4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96CF1-C264-483A-9020-9363DFB33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BF576-79D3-4D37-815D-912874B23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2810D-70A6-40CC-9A01-87293D404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11DEE-786E-4A87-B23A-603DE28DB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9ABF-FB3C-43E7-9194-93EA17D3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8D87-8F63-459F-9D7F-8BCE67522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115E-A519-485B-B682-8F76675C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7298-C8C3-44E0-AD09-95227F0A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6388-4246-46C1-ABDA-011714679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44D79-31D2-4709-8913-FBE99F797555}" type="slidenum">
              <a:rPr b="0" lang="en-CA"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0360" y="64800"/>
            <a:ext cx="7559640" cy="2095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600" spc="-1" strike="noStrike">
                <a:solidFill>
                  <a:srgbClr val="000000"/>
                </a:solidFill>
                <a:latin typeface="Times New Roman"/>
                <a:ea typeface="Times New Roman"/>
              </a:rPr>
              <a:t>Physics Graphing Using Open Office</a:t>
            </a:r>
            <a:br>
              <a:rPr sz="3600"/>
            </a:b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60360" y="0"/>
            <a:ext cx="86407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60360" y="46080"/>
            <a:ext cx="8640720" cy="68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1000"/>
            <a:ext cx="7772400" cy="210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lick on Insert then Chart once the data has been selected.</a:t>
            </a:r>
            <a:br>
              <a:rPr sz="4400"/>
            </a:b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60360" y="179280"/>
            <a:ext cx="8640720" cy="6678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480"/>
            <a:ext cx="7924680" cy="28958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Select x-y scatter plot with no lin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46080"/>
            <a:ext cx="8820360" cy="6811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486080"/>
            <a:ext cx="784872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Include a descriptive title, and label each axis.                         For example, the title Dy vs t is </a:t>
            </a:r>
            <a:r>
              <a:rPr b="0" lang="en-CA" sz="4400" spc="-1" strike="noStrike" u="sng">
                <a:solidFill>
                  <a:srgbClr val="000000"/>
                </a:solidFill>
                <a:uFillTx/>
                <a:latin typeface="Times New Roman"/>
                <a:ea typeface="Times New Roman"/>
              </a:rPr>
              <a:t>not</a:t>
            </a:r>
            <a:r>
              <a:rPr b="0" lang="en-CA" sz="4400" spc="-1" strike="noStrike">
                <a:solidFill>
                  <a:srgbClr val="000000"/>
                </a:solidFill>
                <a:latin typeface="Times New Roman"/>
                <a:ea typeface="Times New Roman"/>
              </a:rPr>
              <a:t> descriptive.                                Be sure to include unit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Unclick the legend.</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0240" y="946080"/>
            <a:ext cx="7620120" cy="571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1680" y="426960"/>
            <a:ext cx="9144000" cy="6010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160"/>
            <a:ext cx="7772400" cy="210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Once you have a graph, click on “insert” then y error bars (no x bars in Open Office).</a:t>
            </a:r>
            <a:endParaRPr b="0" lang="en-US" sz="4400" spc="-1" strike="noStrike">
              <a:solidFill>
                <a:srgbClr val="000000"/>
              </a:solidFill>
              <a:latin typeface="Times New Roman"/>
            </a:endParaRPr>
          </a:p>
        </p:txBody>
      </p:sp>
      <p:sp>
        <p:nvSpPr>
          <p:cNvPr id="72" name="PlaceHolder 2"/>
          <p:cNvSpPr>
            <a:spLocks noGrp="1"/>
          </p:cNvSpPr>
          <p:nvPr>
            <p:ph/>
          </p:nvPr>
        </p:nvSpPr>
        <p:spPr>
          <a:xfrm>
            <a:off x="720720" y="2184480"/>
            <a:ext cx="7772400" cy="4114800"/>
          </a:xfrm>
          <a:prstGeom prst="rect">
            <a:avLst/>
          </a:prstGeom>
          <a:noFill/>
          <a:ln w="0">
            <a:noFill/>
          </a:ln>
        </p:spPr>
        <p:txBody>
          <a:bodyPr lIns="90000" rIns="90000" tIns="46800" bIns="46800" anchor="t">
            <a:normAutofit/>
          </a:bodyPr>
          <a:p>
            <a:pPr marL="339840" indent="-339840">
              <a:spcBef>
                <a:spcPts val="901"/>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600" spc="-1" strike="noStrike">
                <a:solidFill>
                  <a:srgbClr val="000000"/>
                </a:solidFill>
                <a:latin typeface="Times New Roman"/>
                <a:ea typeface="Times New Roman"/>
              </a:rPr>
              <a:t>Give a value for the y error bars(the uncertainty).  Generally the uncertainty should be half the smallest unit measurable by your measuring device.  You may have to calculate the value on the spreadsheet and input using the “cell range” selection.</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Advantages of Graphing with Spreadsheet Program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Can be fast.  Handles lots of data and multiple calculations.</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Precise calculation of equation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0360" y="0"/>
            <a:ext cx="878364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Click on Insert and trend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7440"/>
            <a:ext cx="7772400" cy="70376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hoose the correct type of treadline.  For linear relationships like F=ma, choose “linear”. For exponential relationships like d = ½ at</a:t>
            </a:r>
            <a:r>
              <a:rPr b="0" lang="en-CA" sz="4400" spc="-1" strike="noStrike" baseline="30000">
                <a:solidFill>
                  <a:srgbClr val="000000"/>
                </a:solidFill>
                <a:latin typeface="Times New Roman"/>
              </a:rPr>
              <a:t>2</a:t>
            </a:r>
            <a:r>
              <a:rPr b="0" lang="en-CA" sz="4400" spc="-1" strike="noStrike">
                <a:solidFill>
                  <a:srgbClr val="000000"/>
                </a:solidFill>
                <a:latin typeface="Times New Roman"/>
              </a:rPr>
              <a:t> +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t choose “exponent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 0) or “polynom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non zero).</a:t>
            </a:r>
            <a:br>
              <a:rPr sz="4400"/>
            </a:br>
            <a:r>
              <a:rPr b="1" lang="en-CA" sz="4400" spc="-1" strike="noStrike">
                <a:solidFill>
                  <a:srgbClr val="000000"/>
                </a:solidFill>
                <a:latin typeface="Times New Roman"/>
              </a:rPr>
              <a:t>Note: </a:t>
            </a:r>
            <a:r>
              <a:rPr b="0" lang="en-CA" sz="4400" spc="-1" strike="noStrike">
                <a:solidFill>
                  <a:srgbClr val="000000"/>
                </a:solidFill>
                <a:latin typeface="Times New Roman"/>
              </a:rPr>
              <a:t>Non-linear graphs don't seem to work on Open Office.</a:t>
            </a:r>
            <a:br>
              <a:rPr sz="4400"/>
            </a:b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79280" y="0"/>
            <a:ext cx="882036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515600"/>
            <a:ext cx="7772400" cy="34448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Double click on the equation and change the font to a reasonable size.</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60360" y="0"/>
            <a:ext cx="8640720" cy="6659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Once you have your equation, you cannot change the format.  In your lab writeup, replace the equation with the correct variables, units and sig figs.</a:t>
            </a:r>
            <a:br>
              <a:rPr sz="4400"/>
            </a:b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360360"/>
            <a:ext cx="8820000" cy="6497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79640" y="720720"/>
            <a:ext cx="3495600" cy="633240"/>
          </a:xfrm>
          <a:prstGeom prst="rect">
            <a:avLst/>
          </a:prstGeom>
          <a:ln w="0">
            <a:noFill/>
          </a:ln>
        </p:spPr>
      </p:pic>
      <p:sp>
        <p:nvSpPr>
          <p:cNvPr id="82" name="PlaceHolder 1"/>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Should be replaced with    </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26880"/>
            <a:ext cx="7772400" cy="6126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Include units in your equation.  Think “what are the units of the rise and run?  What are the units of the slope and intercept?”  If the y variable has units of m and the x variable has units of s then the slope will have units of m/s or ms</a:t>
            </a:r>
            <a:r>
              <a:rPr b="0" lang="en-CA" sz="4400" spc="-1" strike="noStrike" baseline="30000">
                <a:solidFill>
                  <a:srgbClr val="000000"/>
                </a:solidFill>
                <a:latin typeface="Times New Roman"/>
                <a:ea typeface="Times New Roman"/>
              </a:rPr>
              <a:t>-1</a:t>
            </a:r>
            <a:r>
              <a:rPr b="0" lang="en-CA" sz="4400" spc="-1" strike="noStrike">
                <a:solidFill>
                  <a:srgbClr val="000000"/>
                </a:solidFill>
                <a:latin typeface="Times New Roman"/>
                <a:ea typeface="Times New Roman"/>
              </a:rPr>
              <a:t> and the intercept will have units of 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Disadvantages of Graphing with Spreadsheet Progra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Students still need to be able to graph by hand.</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Students often do not use the correct type of graph or leave the equation in the proper format.</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Computers can not assess the importance of irregular data point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en-CA" sz="3200" spc="-1" strike="noStrike">
                <a:solidFill>
                  <a:srgbClr val="000000"/>
                </a:solidFill>
                <a:latin typeface="Times New Roman"/>
              </a:rPr>
              <a:t>	</a:t>
            </a:r>
            <a:r>
              <a:rPr b="1" lang="en-CA" sz="3200" spc="-1" strike="noStrike">
                <a:solidFill>
                  <a:srgbClr val="000000"/>
                </a:solidFill>
                <a:latin typeface="Times New Roman"/>
              </a:rPr>
              <a:t>Check that the graph is clear with the equation easily read.  If necessary, resize portions of the graph by moving a corner or side.</a:t>
            </a:r>
            <a:endParaRPr b="0" lang="en-US" sz="3200" spc="-1" strike="noStrike">
              <a:solidFill>
                <a:srgbClr val="000000"/>
              </a:solidFill>
              <a:latin typeface="Times New Roman"/>
            </a:endParaRPr>
          </a:p>
          <a:p>
            <a:pPr marL="34308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opy the data and calculations into a table in your report.  Display the equations you used (copy and paste them)</a:t>
            </a:r>
            <a:br>
              <a:rPr sz="4400"/>
            </a:br>
            <a:endParaRPr b="0" lang="en-US" sz="4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 y="1679400"/>
            <a:ext cx="9144000" cy="4365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3680"/>
            <a:ext cx="777096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If no labels come with the graph when you paste, put them i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90"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781200" y="2617920"/>
            <a:ext cx="7678440" cy="3322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63680"/>
            <a:ext cx="777096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Non-IBers, Done!</a:t>
            </a:r>
            <a:br>
              <a:rPr sz="4400"/>
            </a:b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684360" indent="-682920">
              <a:spcBef>
                <a:spcPts val="799"/>
              </a:spcBef>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CA" sz="3200" spc="-1" strike="noStrike">
                <a:solidFill>
                  <a:srgbClr val="000000"/>
                </a:solidFill>
                <a:latin typeface="Times New Roman"/>
              </a:rPr>
              <a:t>IB requires that you determine the uncertainty in your graph using max-min lines.  You can do this on the computer by just hand drawing two lines on your graph using the drawing tools or a pen.</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95"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781200" y="2617920"/>
            <a:ext cx="7678440" cy="3322440"/>
          </a:xfrm>
          <a:prstGeom prst="rect">
            <a:avLst/>
          </a:prstGeom>
          <a:ln w="0">
            <a:noFill/>
          </a:ln>
        </p:spPr>
      </p:pic>
      <p:sp>
        <p:nvSpPr>
          <p:cNvPr id="97"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100" name="PlaceHolder 2"/>
          <p:cNvSpPr>
            <a:spLocks noGrp="1"/>
          </p:cNvSpPr>
          <p:nvPr>
            <p:ph/>
          </p:nvPr>
        </p:nvSpPr>
        <p:spPr>
          <a:xfrm>
            <a:off x="539640" y="182196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Calculate the slope of the two lines by hand and half the difference is your uncertainty.</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Remeber, uncertainty is to one digit only and the value is rounded to the precision of the uncertainty.</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11.1 +/- 2.1 </a:t>
            </a:r>
            <a:r>
              <a:rPr b="1" lang="en-CA" sz="3200" spc="-1" strike="noStrike">
                <a:solidFill>
                  <a:srgbClr val="000000"/>
                </a:solidFill>
                <a:latin typeface="Times New Roman"/>
              </a:rPr>
              <a:t>BAD</a:t>
            </a:r>
            <a:r>
              <a:rPr b="0" lang="en-CA" sz="3200" spc="-1" strike="noStrike">
                <a:solidFill>
                  <a:srgbClr val="000000"/>
                </a:solidFill>
                <a:latin typeface="Times New Roman"/>
              </a:rPr>
              <a:t>  11 +/- 2  </a:t>
            </a:r>
            <a:r>
              <a:rPr b="1" lang="en-CA" sz="3200" spc="-1" strike="noStrike">
                <a:solidFill>
                  <a:srgbClr val="000000"/>
                </a:solidFill>
                <a:latin typeface="Times New Roman"/>
              </a:rPr>
              <a:t>GOOD</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102"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2)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1)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781200" y="2617920"/>
            <a:ext cx="7678440" cy="3322440"/>
          </a:xfrm>
          <a:prstGeom prst="rect">
            <a:avLst/>
          </a:prstGeom>
          <a:ln w="0">
            <a:noFill/>
          </a:ln>
        </p:spPr>
      </p:pic>
      <p:sp>
        <p:nvSpPr>
          <p:cNvPr id="104"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720" y="178920"/>
            <a:ext cx="7772400" cy="5456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You are finished the graph!</a:t>
            </a:r>
            <a:br>
              <a:rPr sz="4400"/>
            </a:br>
            <a:r>
              <a:rPr b="0" lang="en-CA" sz="4400" spc="-1" strike="noStrike">
                <a:solidFill>
                  <a:srgbClr val="000000"/>
                </a:solidFill>
                <a:latin typeface="Times New Roman"/>
              </a:rPr>
              <a:t>Does the graph match your hypothesis?  Compare the deviation from theory to the uncertainty.  What would account for the observed relationship?  How could you improve the experiment?</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155320"/>
            <a:ext cx="7772400" cy="2775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o graph data, it must be inputted into a spreadsheet program.</a:t>
            </a:r>
            <a:br>
              <a:rPr sz="4400"/>
            </a:br>
            <a:r>
              <a:rPr b="0" lang="en-CA" sz="4400" spc="-1" strike="noStrike">
                <a:solidFill>
                  <a:srgbClr val="000000"/>
                </a:solidFill>
                <a:latin typeface="Times New Roman"/>
              </a:rPr>
              <a:t>Here is an example of data collected by a student.</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160" y="0"/>
            <a:ext cx="9144000" cy="665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981080"/>
            <a:ext cx="7770960" cy="41148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2"/>
          <p:cNvSpPr>
            <a:spLocks noGrp="1"/>
          </p:cNvSpPr>
          <p:nvPr>
            <p:ph type="title"/>
          </p:nvPr>
        </p:nvSpPr>
        <p:spPr>
          <a:xfrm>
            <a:off x="685800" y="561600"/>
            <a:ext cx="777096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4400" spc="-1" strike="noStrike">
                <a:solidFill>
                  <a:srgbClr val="000000"/>
                </a:solidFill>
                <a:latin typeface="Times New Roman"/>
              </a:rPr>
              <a:t>Change format: start by select all</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1079640" y="1979640"/>
            <a:ext cx="7199280" cy="45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hen format cell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2025720"/>
            <a:ext cx="7770960" cy="4024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1200240" y="1800360"/>
            <a:ext cx="6719760" cy="4616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hen choose a reasonable format</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685800" y="2025720"/>
            <a:ext cx="7770960" cy="4024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824040" y="1519200"/>
            <a:ext cx="6916680" cy="514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14320"/>
            <a:ext cx="7772400" cy="54561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o select the data to be graphed, left click on the first cell with the  data you want on the x-axis and hold down the button while you move down over the data.  To select the y-data, hold down the ctrl button then left click and drag down.</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9:55:25Z</dcterms:created>
  <dc:creator>default</dc:creator>
  <dc:description/>
  <dc:language>en-US</dc:language>
  <cp:lastModifiedBy>default</cp:lastModifiedBy>
  <dcterms:modified xsi:type="dcterms:W3CDTF">2006-06-27T17:43:55Z</dcterms:modified>
  <cp:revision>12</cp:revision>
  <dc:subject/>
  <dc:title>Physics Graphing Using Excel </dc:title>
</cp:coreProperties>
</file>